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6E99-6ED0-4F9D-9FAE-EC323D25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2AFD-171F-4ED3-A191-8B659FC9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542-6EA8-48A5-9C4B-D75317E6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3FE8-A884-4A16-90F3-504C0553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BFD4-2578-4385-B8D9-B10A2B66E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A173-7D3E-4AE9-A14B-B60E5DE8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2B90-6549-4304-BDB4-89DCF269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E82D-C4AD-4F9E-A274-24F96334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B60A-4D65-484F-B212-FB37B4A6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C6E2-11E5-46A9-B054-386F13E5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1863-74A8-4337-85A6-1BB7A756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E0A-CEC7-443A-B847-353921C6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66D9-0DFC-4FF2-952E-28E7EB61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83C8-E27E-4DA8-9A7F-2B01F68F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741D-BE67-4EC2-BD6B-7F0B5D36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594F-254E-4C49-8BF1-2398B986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A9B2-C63D-475A-85B5-0E72A375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684-E106-4A95-9628-714F0663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1D0-879B-4854-9B38-4D5A92B2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EEA-2753-4E4F-B04F-52661708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F9A-05B1-400D-966F-4B4FE821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635-EDFB-4995-A697-A3F6B8D6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C67-1532-44D0-93B2-BBC78D9D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79DA-CAED-4B12-96E2-9EC75595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7B84-E3D8-49E6-B824-2982EDC3B15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1821-40BC-4D06-AF62-4E0F3E7B956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NADA’S IMMIGRATION POLIC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CANADA’S IMMIGRATION POLIC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ada’s immigration quota is approximately 200 000 – 300 000 per ye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quota set each year depends 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pulation growth r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c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mand for family reunif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national events (# of refugees – 10% of tot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23" dur="1" fill="hold"/>
                                  <p:tgtEl>
                                    <p:spTgt spid="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24" dur="1" fill="hold"/>
                                  <p:tgtEl>
                                    <p:spTgt spid="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25" dur="1" fill="hold"/>
                                  <p:tgtEl>
                                    <p:spTgt spid="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26" dur="1" fill="hold"/>
                                  <p:tgtEl>
                                    <p:spTgt spid="9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YPES OF IMMIGRANTS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ependent/Economic C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 groups (skilled [67 pts] &amp; business [35 pts]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siness immigrants must have a net worth of between $300 000 - $800 0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contribute to the country’s economic prosper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42" dur="1" fill="hold"/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43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4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YPES OF IMMIGRANTS (Cont...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amily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mily members already in Cana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n sponsor immigrants if 19 or older and can prove they are financially cap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fugee Cla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placed people who flee for their lives due to political or cultural reas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current Immigration Minister is 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sh factors? Pull factors? Intervening obstacl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" dur="1" fill="hold"/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6" dur="1" fill="hold"/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7" dur="1" fill="hold"/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8" dur="1" fill="hold"/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69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70" dur="1" fill="hold"/>
                                  <p:tgtEl>
                                    <p:spTgt spid="1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18:12:33Z</dcterms:created>
  <dc:creator>OCDSB User</dc:creator>
  <dc:description/>
  <dc:language>en-US</dc:language>
  <cp:lastModifiedBy>OCDSB User</cp:lastModifiedBy>
  <dcterms:modified xsi:type="dcterms:W3CDTF">2011-04-28T18:20:19Z</dcterms:modified>
  <cp:revision>2</cp:revision>
  <dc:subject/>
  <dc:title>CANADA’S IMMIGRATION POLICY</dc:title>
</cp:coreProperties>
</file>